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CE02-9B8B-4907-A521-6695DE80B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0410-EDD2-4495-84ED-A55C6FC84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BE25-CBBD-4134-8855-06515F9F2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9DDB-DE5F-4B52-835D-CD413E1B7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8AF6-A9BB-4FF6-ABEB-938356560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3C94-57A3-4FF5-B0B0-E258DC0CE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4473-CE32-41F1-ABC3-0FB46C222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298A-AF6C-4273-9A04-E2D7317ED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96CE-6C0D-4A84-8509-167BBF15C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0BF1-D0D3-449A-9ED0-5DC85CFF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AAA1-F72B-420C-851F-C038578B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1AC2-9486-4287-AA5B-DE18D6AF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CDBB9-9B8C-4F39-BA47-1B84A8CC65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www.bible-history.com/maps/maps/mesopotamia_tra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1T22:25:47Z</dcterms:created>
  <dc:creator>Tammy M. Johnston</dc:creator>
  <dc:description/>
  <dc:language>en-US</dc:language>
  <cp:lastModifiedBy>Tammy M. Johnston</cp:lastModifiedBy>
  <dcterms:modified xsi:type="dcterms:W3CDTF">2009-01-11T22:39:42Z</dcterms:modified>
  <cp:revision>2</cp:revision>
  <dc:subject/>
  <dc:title>Slide 1</dc:title>
</cp:coreProperties>
</file>